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D8781-A8C6-4023-8339-AED994A102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A5357-A338-49C8-921F-14219846B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95426-C952-4FA9-9DB5-CC326C1BC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3FF-0FC7-425A-B50C-3A7ADBDE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AE0-099C-468B-A950-9E988B4C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1BB-27D5-431F-AECE-635843F8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865-5EB4-4C81-9281-231557A3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80DE-2461-4716-8F91-2BCAA821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8FF5-7D65-4715-B149-DB01AC42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681B-F9C5-4217-B381-4BAC95FE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28A3-0009-4206-9A1E-821BD36B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7195-8E65-4600-8888-BB52A082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6C31-D3E3-4EA1-9840-18D62A3A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C4B1-D369-4EB0-905F-08335DA1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CDB-20F2-45A8-AC85-3F84ECC3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D788-F908-4A0C-87C8-A775F62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F241-83B3-4C92-9BCB-430B6285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E2D4-55A0-4ED9-9128-BA10EC42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1622-8491-4A94-B8AB-6715607B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C3BA-F0C2-4821-B04F-830AD412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FE9AB-A6E2-42A5-9284-CE330D5E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76DD3-9C84-46A8-923F-30D0AAFD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F5FBD-3D22-4C23-AF05-F1CF0A18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BB1CB-BD1B-4619-A2D2-274EE0F3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F69FF-4285-462C-AB12-91B2DB80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BFB-AEEC-4E0A-98EC-576A2A27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10F0F-2F9C-46FC-878A-CD308115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B4FCC-8740-4A05-9713-9DA0C6E2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36BBE-CA04-4B3D-997E-9F87329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A6C69-E4BF-4DB1-98CE-8491A69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D8026-65B4-4B1A-8419-045F2134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E4E44-7F6A-47C6-836B-A4F54900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CBB29-35D0-44FB-8FE3-13FFAA05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FD3C4-AA09-48A0-AC60-176BAA3C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83A9D-D87F-4DF0-827D-1F6611CA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43A91-B345-49CF-BE06-90158C14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220-9EE1-4589-AB5E-3845DD4B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8821-98A5-418C-A40E-A65AAAB7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68AF5-1844-43C4-A8FC-D95FAB10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0FF54-00E3-4994-B7A0-00B852AF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D0F05-FB44-41E4-92DD-795472E8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16FE-6F4A-4983-A960-6C60256D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32C08-EF17-40D3-9A76-24A08F9B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C699F-4677-4E89-8F11-AD77680A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36D5-9124-45AC-B860-DF6344E4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3696C-B8DD-4053-A936-61D3B60B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814-B451-49D1-B3C8-E53C0475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D88-49B7-4C19-BC0E-4809BDC7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F22-D052-45AF-B4D3-C1C2DA00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7CE-A784-4242-8B26-510DFEC2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50A-98FF-43DB-A66C-EFBE6F20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C69BD-339E-4024-93A4-4C5C5CE1296C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2A897-6B41-4791-926E-9E87211679B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69C19-3567-46E1-AA58-A5BBBF321E98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5163E-E577-4250-8F32-E6A9AB471A55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364A9-74EC-41FB-A012-53F957D57629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805BF-8DBF-45B5-8E16-CCE0814D739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7A603-77F5-4972-B93F-685C69C38C62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1757D-4008-489B-8522-12E03D55BAF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DEFINITE ARTICLE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entury Gothic"/>
              </a:rPr>
              <a:t>el, la, los, la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You try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The girl  =     la chica</a:t>
            </a: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The girls = _______________</a:t>
            </a: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nsw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girl  =     la chic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girls = </a:t>
            </a:r>
            <a:r>
              <a:rPr b="0" lang="en-US" sz="2400" spc="-1" strike="noStrike">
                <a:solidFill>
                  <a:srgbClr val="0000ff"/>
                </a:solidFill>
                <a:latin typeface="Century Gothic"/>
              </a:rPr>
              <a:t>las chic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You try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the hat  = el sombrero</a:t>
            </a: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the hats = _______________</a:t>
            </a: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the hat  = el sombrero</a:t>
            </a: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the hats =  </a:t>
            </a:r>
            <a:r>
              <a:rPr b="0" lang="en-US" sz="4500" spc="-1" strike="noStrike">
                <a:solidFill>
                  <a:srgbClr val="0000ff"/>
                </a:solidFill>
                <a:latin typeface="Century Gothic"/>
              </a:rPr>
              <a:t>los sombreros</a:t>
            </a: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l, la, los, las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______   zapat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______   chaquet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______   zapato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nsw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l   zapat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   chaquet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os   zapato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l, la, los, las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____  sombrer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____ chic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____ amig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nsw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l   sombrer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s  chic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  amig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entury Gothic"/>
              </a:rPr>
              <a:t>GENDER – masculine and feminine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Spanish, all nouns (people, animals, places or things) are either masculine or feminin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can tell by looking at the </a:t>
            </a:r>
            <a:r>
              <a:rPr b="0" lang="en-US" sz="2400" spc="-1" strike="noStrike">
                <a:solidFill>
                  <a:srgbClr val="ff6600"/>
                </a:solidFill>
                <a:latin typeface="Century Gothic"/>
              </a:rPr>
              <a:t>el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or </a:t>
            </a:r>
            <a:r>
              <a:rPr b="0" lang="en-US" sz="2400" spc="-1" strike="noStrike">
                <a:solidFill>
                  <a:srgbClr val="ff6600"/>
                </a:solidFill>
                <a:latin typeface="Century Gothic"/>
              </a:rPr>
              <a:t>l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in front of the wor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entury Gothic"/>
              </a:rPr>
              <a:t>el</a:t>
            </a: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 and </a:t>
            </a:r>
            <a:r>
              <a:rPr b="0" lang="en-US" sz="4000" spc="-1" strike="noStrike">
                <a:solidFill>
                  <a:srgbClr val="008000"/>
                </a:solidFill>
                <a:latin typeface="Century Gothic"/>
              </a:rPr>
              <a:t>l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entury Gothic"/>
              </a:rPr>
              <a:t>el</a:t>
            </a:r>
            <a:r>
              <a:rPr b="0" lang="en-US" sz="4000" spc="-1" strike="noStrike">
                <a:solidFill>
                  <a:srgbClr val="3e3d2d"/>
                </a:solidFill>
                <a:latin typeface="Century Gothic"/>
              </a:rPr>
              <a:t> in front of the word means it’s </a:t>
            </a:r>
            <a:r>
              <a:rPr b="0" lang="en-US" sz="4000" spc="-1" strike="noStrike">
                <a:solidFill>
                  <a:srgbClr val="008000"/>
                </a:solidFill>
                <a:latin typeface="Century Gothic"/>
              </a:rPr>
              <a:t>masculine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entury Gothic"/>
              </a:rPr>
              <a:t>la</a:t>
            </a:r>
            <a:r>
              <a:rPr b="0" lang="en-US" sz="4000" spc="-1" strike="noStrike">
                <a:solidFill>
                  <a:srgbClr val="3e3d2d"/>
                </a:solidFill>
                <a:latin typeface="Century Gothic"/>
              </a:rPr>
              <a:t> in front of the word means it’s </a:t>
            </a:r>
            <a:r>
              <a:rPr b="0" lang="en-US" sz="4000" spc="-1" strike="noStrike">
                <a:solidFill>
                  <a:srgbClr val="008000"/>
                </a:solidFill>
                <a:latin typeface="Century Gothic"/>
              </a:rPr>
              <a:t>feminine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os and las - pluralit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Century Gothic"/>
              </a:rPr>
              <a:t>el</a:t>
            </a: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 is singular, </a:t>
            </a:r>
            <a:r>
              <a:rPr b="0" lang="en-US" sz="4200" spc="-1" strike="noStrike">
                <a:solidFill>
                  <a:srgbClr val="0000ff"/>
                </a:solidFill>
                <a:latin typeface="Century Gothic"/>
              </a:rPr>
              <a:t>los</a:t>
            </a: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 is plural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Century Gothic"/>
              </a:rPr>
              <a:t>la</a:t>
            </a: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 is singular, </a:t>
            </a:r>
            <a:r>
              <a:rPr b="0" lang="en-US" sz="4200" spc="-1" strike="noStrike">
                <a:solidFill>
                  <a:srgbClr val="008000"/>
                </a:solidFill>
                <a:latin typeface="Century Gothic"/>
              </a:rPr>
              <a:t>las</a:t>
            </a: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 is plural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Generally speaking, el, la, los and las mean THE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l, la, los, la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or example:    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la camiseta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the t-shirt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las camisetas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the t-shirts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2" name="Picture 5" descr="blue-shirt-md.png"/>
          <p:cNvPicPr/>
          <p:nvPr/>
        </p:nvPicPr>
        <p:blipFill>
          <a:blip r:embed="rId1"/>
          <a:stretch/>
        </p:blipFill>
        <p:spPr>
          <a:xfrm>
            <a:off x="4084560" y="4724280"/>
            <a:ext cx="974880" cy="965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blue-shirt-md.png"/>
          <p:cNvPicPr/>
          <p:nvPr/>
        </p:nvPicPr>
        <p:blipFill>
          <a:blip r:embed="rId2"/>
          <a:stretch/>
        </p:blipFill>
        <p:spPr>
          <a:xfrm>
            <a:off x="5334120" y="4724280"/>
            <a:ext cx="974520" cy="965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blue-shirt-md.png"/>
          <p:cNvPicPr/>
          <p:nvPr/>
        </p:nvPicPr>
        <p:blipFill>
          <a:blip r:embed="rId3"/>
          <a:stretch/>
        </p:blipFill>
        <p:spPr>
          <a:xfrm>
            <a:off x="4359240" y="2133720"/>
            <a:ext cx="974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l, la, los, la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el vestido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the dress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los vestidos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the dresses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7" name="Picture 3" descr="40sbuttondress.flat.jpg"/>
          <p:cNvPicPr/>
          <p:nvPr/>
        </p:nvPicPr>
        <p:blipFill>
          <a:blip r:embed="rId1"/>
          <a:stretch/>
        </p:blipFill>
        <p:spPr>
          <a:xfrm>
            <a:off x="4572000" y="1600200"/>
            <a:ext cx="1841400" cy="2011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0sbuttondress.flat.jpg"/>
          <p:cNvPicPr/>
          <p:nvPr/>
        </p:nvPicPr>
        <p:blipFill>
          <a:blip r:embed="rId2"/>
          <a:stretch/>
        </p:blipFill>
        <p:spPr>
          <a:xfrm>
            <a:off x="3651120" y="4114800"/>
            <a:ext cx="1073160" cy="1752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40sbuttondress.flat.jpg"/>
          <p:cNvPicPr/>
          <p:nvPr/>
        </p:nvPicPr>
        <p:blipFill>
          <a:blip r:embed="rId3"/>
          <a:stretch/>
        </p:blipFill>
        <p:spPr>
          <a:xfrm>
            <a:off x="5035680" y="4114800"/>
            <a:ext cx="1136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How do I know the gender of a new word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Usually when a word ends in “O” it’s masculin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Usually when a word ends in “A”it’s feminin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l chico, el libro, el niño, el sombrer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 chica, la chaqueta, la camisa, la pluma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How do I know the gender of a new word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f the word does not end in “O” or “A”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ke:   suét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aí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sperida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ado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have to simply learn and memorize the gender of the wor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ow do I know the gender of the word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nce in a while a word that ends in  “o”will have a “la”in front of it.    Again, gender of words is something you just learn and memorize with tim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ample:        la mano      han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 radio       radio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8:48Z</dcterms:created>
  <dc:creator>Sarah Ruiz</dc:creator>
  <dc:description/>
  <dc:language>en-US</dc:language>
  <cp:lastModifiedBy>Prine, Stephanie</cp:lastModifiedBy>
  <dcterms:modified xsi:type="dcterms:W3CDTF">2012-10-04T16:44:23Z</dcterms:modified>
  <cp:revision>9</cp:revision>
  <dc:subject/>
  <dc:title>DEFINITE ARTICLES</dc:title>
</cp:coreProperties>
</file>